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5    T.Tammet     data structures 1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28EF1EF0-0A83-4FB7-85CE-C938B6A45ECE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599-A367-4EDA-B04D-83A09CD7096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5580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8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in a file, consisting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only then convert to an ar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ng N-th element is very fast, even in N is b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lis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ng a new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ing an existing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arr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52480" y="2057400"/>
            <a:ext cx="6477120" cy="2589120"/>
            <a:chOff x="1752480" y="2057400"/>
            <a:chExt cx="6477120" cy="2589120"/>
          </a:xfrm>
        </p:grpSpPr>
        <p:sp>
          <p:nvSpPr>
            <p:cNvPr id="184" name=""/>
            <p:cNvSpPr/>
            <p:nvPr/>
          </p:nvSpPr>
          <p:spPr>
            <a:xfrm>
              <a:off x="1752480" y="2057400"/>
              <a:ext cx="6477120" cy="258912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480" y="2057400"/>
              <a:ext cx="64771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d the place in list, keep previous nod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truct a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he old previous node point to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new node point to nex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itive data types like integers, floa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s or classes which can be used for list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definitions for keep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3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4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of 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 etc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ava, every class has class Object as a top level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make a stack and queue of elements of type Obj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24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767640" y="1103400"/>
            <a:ext cx="928440" cy="642600"/>
            <a:chOff x="6767640" y="1103400"/>
            <a:chExt cx="928440" cy="642600"/>
          </a:xfrm>
        </p:grpSpPr>
        <p:sp>
          <p:nvSpPr>
            <p:cNvPr id="106" name=""/>
            <p:cNvSpPr/>
            <p:nvPr/>
          </p:nvSpPr>
          <p:spPr>
            <a:xfrm>
              <a:off x="6767640" y="1103400"/>
              <a:ext cx="92844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67640" y="11034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715000" y="2514600"/>
            <a:ext cx="928800" cy="642600"/>
            <a:chOff x="5715000" y="2514600"/>
            <a:chExt cx="928800" cy="642600"/>
          </a:xfrm>
        </p:grpSpPr>
        <p:sp>
          <p:nvSpPr>
            <p:cNvPr id="109" name=""/>
            <p:cNvSpPr/>
            <p:nvPr/>
          </p:nvSpPr>
          <p:spPr>
            <a:xfrm>
              <a:off x="5715000" y="2514600"/>
              <a:ext cx="92880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251460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772400" y="4876920"/>
            <a:ext cx="928800" cy="642600"/>
            <a:chOff x="7772400" y="4876920"/>
            <a:chExt cx="928800" cy="642600"/>
          </a:xfrm>
        </p:grpSpPr>
        <p:sp>
          <p:nvSpPr>
            <p:cNvPr id="112" name=""/>
            <p:cNvSpPr/>
            <p:nvPr/>
          </p:nvSpPr>
          <p:spPr>
            <a:xfrm>
              <a:off x="7772400" y="4876920"/>
              <a:ext cx="92880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487692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76920" y="3657600"/>
            <a:ext cx="928440" cy="642600"/>
            <a:chOff x="4876920" y="3657600"/>
            <a:chExt cx="928440" cy="642600"/>
          </a:xfrm>
        </p:grpSpPr>
        <p:sp>
          <p:nvSpPr>
            <p:cNvPr id="115" name=""/>
            <p:cNvSpPr/>
            <p:nvPr/>
          </p:nvSpPr>
          <p:spPr>
            <a:xfrm>
              <a:off x="4876920" y="3657600"/>
              <a:ext cx="92844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6576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5410080" y="3122640"/>
            <a:ext cx="53352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00800" y="1750680"/>
            <a:ext cx="685800" cy="129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42000" y="1750680"/>
            <a:ext cx="307800" cy="366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12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990720" y="2589120"/>
            <a:ext cx="91440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733920"/>
            <a:ext cx="1479600" cy="581400"/>
            <a:chOff x="228600" y="3733920"/>
            <a:chExt cx="1479600" cy="581400"/>
          </a:xfrm>
        </p:grpSpPr>
        <p:sp>
          <p:nvSpPr>
            <p:cNvPr id="139" name=""/>
            <p:cNvSpPr/>
            <p:nvPr/>
          </p:nvSpPr>
          <p:spPr>
            <a:xfrm>
              <a:off x="228600" y="373392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6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52480" y="3429000"/>
            <a:ext cx="6248520" cy="3011040"/>
            <a:chOff x="1752480" y="3429000"/>
            <a:chExt cx="6248520" cy="3011040"/>
          </a:xfrm>
        </p:grpSpPr>
        <p:sp>
          <p:nvSpPr>
            <p:cNvPr id="147" name=""/>
            <p:cNvSpPr/>
            <p:nvPr/>
          </p:nvSpPr>
          <p:spPr>
            <a:xfrm>
              <a:off x="1752480" y="3429000"/>
              <a:ext cx="6248520" cy="29322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429000"/>
              <a:ext cx="624852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28600" y="1981080"/>
            <a:ext cx="1479600" cy="581400"/>
            <a:chOff x="228600" y="1981080"/>
            <a:chExt cx="1479600" cy="581400"/>
          </a:xfrm>
        </p:grpSpPr>
        <p:sp>
          <p:nvSpPr>
            <p:cNvPr id="150" name=""/>
            <p:cNvSpPr/>
            <p:nvPr/>
          </p:nvSpPr>
          <p:spPr>
            <a:xfrm>
              <a:off x="228600" y="198108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96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1219320" y="1674720"/>
            <a:ext cx="53316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20T21:05:17Z</dcterms:modified>
  <cp:revision>1</cp:revision>
  <dc:subject/>
  <dc:title> </dc:title>
</cp:coreProperties>
</file>